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952AEB-2882-40B6-9CA0-D97EA0BD4E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61E50D-7EDF-49A2-9500-01463E22AA79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B4AA7C4-A739-45C9-9EFC-61E4EC4A2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F4882DC-0A56-4E88-9DAA-C9E5E3FF5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168CCA5-5215-46C8-9604-F70315094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1F1E9F1-B61C-40F4-BBA5-EC9D316F7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567676B-2252-4912-A9DF-1C884DC74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2223C43-759F-4D69-84A0-1C178DE49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154B4E6-1F7F-4C01-B7B4-57DCB4236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B66148E-0344-44A2-AF18-5E9AC8AB4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964B393-31C7-4D6C-8764-6339D5C3C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FAAF636-F51C-4E34-80FA-94330B22D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8C6FC4-17E9-4B9F-B511-25F982E839A0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FA480E2-E86A-49DD-B812-E79A5D349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2606B89-9BB9-4D4B-BA2D-4F9EA6CE1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86D00A0-6C56-4CC2-8404-9379309BA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9C7D1C4-2E86-4413-9127-D84C735CE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264ADDD-0465-46C9-B468-2B7507C01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FF58BFC-F99A-41E0-BFE2-E80A22DFE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510F817-B4E0-44DC-98D1-A14DAD995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3659B58-94AA-45B6-85C7-FC844172F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9F5E6FE-4E80-4ABE-A2A7-2CF17AFC9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C618DBB-5637-4CC7-B82F-90D03299D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2191D0-2BC0-4DD3-ADE6-23537671F15F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5B4EA0D-8D4F-491E-AC5D-88E5ED8EE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1701115-4264-4118-8C34-78B6CA43F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F7614C4-80F7-40B7-84DE-E5557B1FA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9523B86-927B-4DAD-9AD7-1FC6FDBE1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B623975-D413-49A1-86D9-FE1654502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259BC91-79FD-4CE1-ADB2-77BE0F612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6054CC1-945E-42E7-A160-36F064FBE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C3A039D-D83C-4BF0-A022-93E39AEEF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830FC50-C837-474B-921B-43611A99B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D6ED5CD-3AD5-487D-AFC5-3EA87F873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A1A8B4-E027-46B6-AA41-0832640B0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D870EA6-B8C2-47E4-A0B8-D9F645BDB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3EA5CE4-0B8F-4CEE-8837-9A5596787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91B72F5-0151-4D80-BF99-90069D3B6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5C11F42-0017-4C3E-BEFC-C32EF812D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74448F5-9308-43DB-BF11-42351DD36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202345F-1CEE-4B9B-8056-A0BB1FA45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33F1B6B-66E3-41D8-A429-3F59ED646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61A965D-A91B-4517-81B0-AFC9D29CF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C72A15F-4513-4DF7-ABD8-1CC54EC13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95D5FB5-CBD3-46E0-ADF0-31072FD39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6BEEF0-C81B-4D04-9FFF-1421C852A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48F06F3-FAC8-4336-BECC-21933E4D8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78F8D68-A78B-445B-9450-8F5811AE0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BB3CCD6-C529-4A65-AD1F-C38166EAB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068E89D-7B23-4C2F-B0E5-9E39A063D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C377090-D80A-4E9D-A547-8E3829301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A3207D-7434-412B-9FC2-FACAE163E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9ABEA3-6E38-483A-8636-DAC2DEE18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36CFF0-B979-449E-8EBA-14CE71CA5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A2DE62-0DAD-45F4-982C-27D3788FA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265758-42C7-42F4-8A92-03EF54145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9E3140-BF54-4238-AC71-911CFA9E654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4931E3-E223-4C55-AC7E-04047AFE5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A24E4C-A720-4EF6-9C1F-6EB80C3C6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AF04BB-F8D3-4E78-BE7D-FB46C2F66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095BB7-0F2A-471B-9D5B-DE5A673AC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CF5E2E-A7EC-44AF-B867-E6D02FA39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92A0356-4E72-45EA-B376-AD2F2C971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FD3D79C-6901-40E6-A5BB-14C36D352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9541142-0B85-4FDF-B928-6D604DB31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8B4632D-529C-42AF-B026-A6997BCED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1201355-885E-4DC9-9AF2-9022EDDB4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21141A-9305-4AF5-BAA9-E0A59798293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2DA6C1C-2183-4A56-88C4-6CEF188EB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DD4EC07-FF42-47C8-BD56-023D290C0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A7D49B3-0065-4431-952E-5BF166DC4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305DA9C-3ED2-4314-A35A-06529C18A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B3929C5-C660-4C3E-9B32-632E0BAE5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BDF91EB-EE1E-46A1-852A-2DF2CFA0F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863A3DA-AF0D-410C-BB1C-B0F012168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B47F35E-21F3-4383-8437-10ABE9465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869F42C-15B7-4085-BF64-6737CDE80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1EABD30-8CF1-4754-9381-D3C43D14B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DDC990-1D4A-49FD-9547-9B19D1DAE20D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998FBD7-CDDD-4C44-8A52-B7C329C2A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E96E111-A22B-4553-851A-F318388A9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334C5BE-986D-4130-9846-E674DE851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5E1F582-57C7-4230-BB59-DEE974E8E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38845D1-3FE1-443D-83B0-0E7492E48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4A0A7EE-A3F8-4A8C-9AF3-007E4BF54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35F47BC-0142-4B03-A9AC-E6D6A871E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4518A7D-4E76-4627-9CFC-B0E77B860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ED00B5D-B8A0-4544-AE36-E09E50954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A1F5038-8ECE-47F5-AB03-680B3CCBB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467772-B87C-45DD-A8BF-CABE55F6B65C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FF41835-7B57-4BBA-89EF-178CDC6F6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13D0685-EE42-49C9-9FF7-45A5033E8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AAB76ED-C9E5-4994-8246-44FD7A066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6820004-3035-4591-BC31-8AB6D69F4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4412031-41D7-4B07-9A62-0D11F50FA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58157E1-3171-47AC-8538-D760ED77F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212D901-4121-47B1-B7D7-317DC9CAF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CB79AA6-6078-4821-AF54-10BC162DF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903E557-E217-4CD7-A0D4-03F773F05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501AECD-96B8-4EFC-AE18-3792EF2A8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8305E1-033C-4803-98AD-4177A2C0EDCF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4373F07-2471-4522-B644-746DC41B6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21A7388-0285-4D29-A08D-D5FBA5B20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10417BB-9A70-43AD-B14C-8FA082C1C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A089ED6-0FF7-4D98-ADDD-C4CF008BD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2AE9222-7B5A-4C87-8837-9AE61AE98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B8F21E3-DAE6-41A3-8367-A19229707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D11701C-328E-442F-A705-85E4C5C3A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FA46221-EB88-4F3D-BC60-BB850BE0A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DE5F22D-5FA5-4D56-941F-A951B14F5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737152C-C08F-4C67-B727-0230A524B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80B25D-49DC-4720-8316-4C22E309143B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A06F8DB-038A-4BA9-A0D1-4025AA278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304DE9D-BAE4-4D94-99E7-D7797379E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56EB545-2BA7-4D44-A8DE-39E0BCA20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055AE1C-13B6-4D90-B05C-EAA03AE05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58BBEAE-91BA-4625-9E0D-9000600A7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39E03AB-01D4-45E7-AA55-D2D6D516B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2648724-DECC-4168-8583-B57893145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08B2729-1AA6-412D-8422-953529D7F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7969848-F48A-4E28-9500-F3EE73825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7003CEF-F428-4299-BF16-3189304B0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7AE4CC-05C7-4AE4-9A88-FF7BF6FE851C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CA4EB51-1B93-492D-84BF-1B33BF0C4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77BBD63-E183-4589-944D-F10DF8FCC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414DB31-3E0F-41DA-8D0D-463D013D3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BA0992F-2BB1-414D-B33E-3F6D41F46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81CE02E-3CD2-4ED0-9759-A6578976E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ECD96DD-387C-492B-9A56-B9A8BDA4E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486E066-76A3-4CE1-A51A-F051930F2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42229FC-5C22-4D06-A661-778EF1D33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182770A-C658-47D1-A2E2-2ECB4813A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74B955B-198B-478C-AE8C-F56FF495F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7A9BD1-7244-4FA4-AC3C-10C206545576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526E9FA-EF11-41F5-84E4-ABDF14368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41134D0-236D-469D-A2CE-874F11867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4457A71-DAD3-4302-9B18-EC967F9A5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1733D3F-573D-44E1-906D-DF3E719F2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881C41D-9D5A-43EB-8BF7-242194F9D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97E9E41-BF11-46BC-93B2-251530584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8D47D80-2312-4DD8-B877-64A086DE1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CA423DA-789B-4188-9B13-3CED5A4D7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746C2EA-200E-4B40-B065-4F45D4B58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D584511-1B57-47B9-9118-5599CDC74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e9a49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696464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d34817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8600">
              <a:spcBef>
                <a:spcPts val="400"/>
              </a:spcBef>
              <a:buClr>
                <a:srgbClr val="d3481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858960" indent="-228600">
              <a:spcBef>
                <a:spcPts val="400"/>
              </a:spcBef>
              <a:buClr>
                <a:srgbClr val="9b2d1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3" marL="1143000" indent="-228600">
              <a:spcBef>
                <a:spcPts val="400"/>
              </a:spcBef>
              <a:buClr>
                <a:srgbClr val="9b2d1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400"/>
              </a:spcBef>
              <a:buClr>
                <a:srgbClr val="9b2d1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1"/>
          </p:nvPr>
        </p:nvSpPr>
        <p:spPr>
          <a:xfrm>
            <a:off x="4379760" y="6408720"/>
            <a:ext cx="423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2011, The McGraw-Hill Companies, Inc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9A72C-3F4B-4E4B-8429-A1B4149274F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Freeform 9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e9a49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Freeform 10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6" name="Right Triangle 15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417" name="Right Triangle 15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8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19" name="Straight Connector 16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420" name="Chevron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bb2e00"/>
              </a:gs>
              <a:gs pos="100000">
                <a:srgbClr val="ee8779"/>
              </a:gs>
            </a:gsLst>
            <a:lin ang="16200000"/>
          </a:gradFill>
          <a:ln cap="rnd" w="3240">
            <a:solidFill>
              <a:srgbClr val="9b320e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Chevron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bb2e00"/>
              </a:gs>
              <a:gs pos="100000">
                <a:srgbClr val="ee8779"/>
              </a:gs>
            </a:gsLst>
            <a:lin ang="16200000"/>
          </a:gradFill>
          <a:ln cap="rnd" w="3240">
            <a:solidFill>
              <a:srgbClr val="9b320e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e9e5dc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e9e5dc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d34817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620640" indent="-228600">
              <a:spcBef>
                <a:spcPts val="400"/>
              </a:spcBef>
              <a:buClr>
                <a:srgbClr val="d3481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2" marL="858960" indent="-228600">
              <a:spcBef>
                <a:spcPts val="400"/>
              </a:spcBef>
              <a:buClr>
                <a:srgbClr val="9b2d1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3" marL="1143000" indent="-228600">
              <a:spcBef>
                <a:spcPts val="400"/>
              </a:spcBef>
              <a:buClr>
                <a:srgbClr val="9b2d1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4" marL="1371600" indent="-228600">
              <a:spcBef>
                <a:spcPts val="400"/>
              </a:spcBef>
              <a:buClr>
                <a:srgbClr val="9b2d1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 type="dt" idx="2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/18/20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 type="ftr" idx="2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2011, The McGraw-Hill Companies, Inc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 type="sldNum" idx="2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BC0C9-60CB-41F4-BBA3-45B0B26BC61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e9a49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5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466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68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696464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d34817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8600">
              <a:spcBef>
                <a:spcPts val="400"/>
              </a:spcBef>
              <a:buClr>
                <a:srgbClr val="d3481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858960" indent="-228600">
              <a:spcBef>
                <a:spcPts val="400"/>
              </a:spcBef>
              <a:buClr>
                <a:srgbClr val="9b2d1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3" marL="1143000" indent="-228600">
              <a:spcBef>
                <a:spcPts val="400"/>
              </a:spcBef>
              <a:buClr>
                <a:srgbClr val="9b2d1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400"/>
              </a:spcBef>
              <a:buClr>
                <a:srgbClr val="9b2d1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 type="dt" idx="3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/18/20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 type="ftr" idx="31"/>
          </p:nvPr>
        </p:nvSpPr>
        <p:spPr>
          <a:xfrm>
            <a:off x="4379760" y="6408720"/>
            <a:ext cx="423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2011, The McGraw-Hill Companies, Inc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 type="sldNum" idx="3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0F21A-73B0-4919-9D66-033212622FC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e9a49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51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1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696464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d34817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8600">
              <a:spcBef>
                <a:spcPts val="400"/>
              </a:spcBef>
              <a:buClr>
                <a:srgbClr val="d3481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858960" indent="-228600">
              <a:spcBef>
                <a:spcPts val="400"/>
              </a:spcBef>
              <a:buClr>
                <a:srgbClr val="9b2d1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3" marL="1143000" indent="-228600">
              <a:spcBef>
                <a:spcPts val="400"/>
              </a:spcBef>
              <a:buClr>
                <a:srgbClr val="9b2d1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400"/>
              </a:spcBef>
              <a:buClr>
                <a:srgbClr val="9b2d1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 type="dt" idx="3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/18/20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 type="ftr" idx="34"/>
          </p:nvPr>
        </p:nvSpPr>
        <p:spPr>
          <a:xfrm>
            <a:off x="4379760" y="6408720"/>
            <a:ext cx="423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2011, The McGraw-Hill Companies, Inc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 type="sldNum" idx="3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22DDE-F6E0-4876-81B2-4F670B8383D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ight Triangle 9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ae1500"/>
              </a:gs>
              <a:gs pos="50000">
                <a:srgbClr val="f7593d"/>
              </a:gs>
              <a:gs pos="100000">
                <a:srgbClr val="ae1500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Group 10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8" name="Freeform 15"/>
            <p:cNvSpPr/>
            <p:nvPr/>
          </p:nvSpPr>
          <p:spPr>
            <a:xfrm>
              <a:off x="1693440" y="4952880"/>
              <a:ext cx="7444440" cy="48600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000"/>
                <a:gd name="textAreaBottom" fmla="*/ 486360 h 48600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e9a49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Freeform 16"/>
            <p:cNvSpPr/>
            <p:nvPr/>
          </p:nvSpPr>
          <p:spPr>
            <a:xfrm>
              <a:off x="45360" y="5236200"/>
              <a:ext cx="9092880" cy="786600"/>
            </a:xfrm>
            <a:custGeom>
              <a:avLst/>
              <a:gdLst>
                <a:gd name="textAreaLeft" fmla="*/ 0 w 9092880"/>
                <a:gd name="textAreaRight" fmla="*/ 9093240 w 9092880"/>
                <a:gd name="textAreaTop" fmla="*/ 0 h 786600"/>
                <a:gd name="textAreaBottom" fmla="*/ 786960 h 7866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" name="Freeform 18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1" name="Freeform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2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3" name="Straight Connector 19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696464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d34817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8600">
              <a:spcBef>
                <a:spcPts val="400"/>
              </a:spcBef>
              <a:buClr>
                <a:srgbClr val="d3481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858960" indent="-228600">
              <a:spcBef>
                <a:spcPts val="400"/>
              </a:spcBef>
              <a:buClr>
                <a:srgbClr val="9b2d1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3" marL="1143000" indent="-228600">
              <a:spcBef>
                <a:spcPts val="400"/>
              </a:spcBef>
              <a:buClr>
                <a:srgbClr val="9b2d1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400"/>
              </a:spcBef>
              <a:buClr>
                <a:srgbClr val="9b2d1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6/18/20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4"/>
          </p:nvPr>
        </p:nvSpPr>
        <p:spPr>
          <a:xfrm>
            <a:off x="4379760" y="6408720"/>
            <a:ext cx="423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7e9e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7e9e7"/>
                </a:solidFill>
                <a:latin typeface="Times New Roman"/>
              </a:rPr>
              <a:t>©2011, The McGraw-Hill Companies, Inc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DB3A1-73E5-43C3-AC79-57171DE97C6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e9a49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8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0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696464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d34817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8600">
              <a:spcBef>
                <a:spcPts val="400"/>
              </a:spcBef>
              <a:buClr>
                <a:srgbClr val="d3481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858960" indent="-228600">
              <a:spcBef>
                <a:spcPts val="400"/>
              </a:spcBef>
              <a:buClr>
                <a:srgbClr val="9b2d1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3" marL="1143000" indent="-228600">
              <a:spcBef>
                <a:spcPts val="400"/>
              </a:spcBef>
              <a:buClr>
                <a:srgbClr val="9b2d1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400"/>
              </a:spcBef>
              <a:buClr>
                <a:srgbClr val="9b2d1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/18/20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7"/>
          </p:nvPr>
        </p:nvSpPr>
        <p:spPr>
          <a:xfrm>
            <a:off x="4379760" y="6408720"/>
            <a:ext cx="423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2011, The McGraw-Hill Companies, Inc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28FFC-D89B-4F00-A062-43C20E5C9B2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e9a49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5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7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48" name="Chevron 9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bb2e00"/>
              </a:gs>
              <a:gs pos="100000">
                <a:srgbClr val="ee8779"/>
              </a:gs>
            </a:gsLst>
            <a:lin ang="16200000"/>
          </a:gradFill>
          <a:ln cap="rnd" w="3240">
            <a:solidFill>
              <a:srgbClr val="9b320e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Chevron 10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bb2e00"/>
              </a:gs>
              <a:gs pos="100000">
                <a:srgbClr val="ee8779"/>
              </a:gs>
            </a:gsLst>
            <a:lin ang="16200000"/>
          </a:gradFill>
          <a:ln cap="rnd" w="3240">
            <a:solidFill>
              <a:srgbClr val="9b320e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e9e5dc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e9e5dc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d34817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620640" indent="-228600">
              <a:spcBef>
                <a:spcPts val="400"/>
              </a:spcBef>
              <a:buClr>
                <a:srgbClr val="d3481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2" marL="858960" indent="-228600">
              <a:spcBef>
                <a:spcPts val="400"/>
              </a:spcBef>
              <a:buClr>
                <a:srgbClr val="9b2d1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3" marL="1143000" indent="-228600">
              <a:spcBef>
                <a:spcPts val="400"/>
              </a:spcBef>
              <a:buClr>
                <a:srgbClr val="9b2d1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4" marL="1371600" indent="-228600">
              <a:spcBef>
                <a:spcPts val="400"/>
              </a:spcBef>
              <a:buClr>
                <a:srgbClr val="9b2d1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/18/20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0"/>
          </p:nvPr>
        </p:nvSpPr>
        <p:spPr>
          <a:xfrm>
            <a:off x="4379760" y="6408720"/>
            <a:ext cx="423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2011, The McGraw-Hill Companies, Inc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030B6-A9DE-49BB-8DE5-2488C131DE1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e9a49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3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94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6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e9e5dc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e9e5dc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d34817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620640" indent="-228600">
              <a:spcBef>
                <a:spcPts val="400"/>
              </a:spcBef>
              <a:buClr>
                <a:srgbClr val="d3481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2" marL="858960" indent="-228600">
              <a:spcBef>
                <a:spcPts val="400"/>
              </a:spcBef>
              <a:buClr>
                <a:srgbClr val="9b2d1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3" marL="1143000" indent="-228600">
              <a:spcBef>
                <a:spcPts val="400"/>
              </a:spcBef>
              <a:buClr>
                <a:srgbClr val="9b2d1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4" marL="1371600" indent="-228600">
              <a:spcBef>
                <a:spcPts val="400"/>
              </a:spcBef>
              <a:buClr>
                <a:srgbClr val="9b2d1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 type="dt" idx="1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/18/20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 type="ftr" idx="13"/>
          </p:nvPr>
        </p:nvSpPr>
        <p:spPr>
          <a:xfrm>
            <a:off x="4379760" y="6408720"/>
            <a:ext cx="423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2011, The McGraw-Hill Companies, Inc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 type="sldNum" idx="1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1202C-C611-49AC-B4A7-E9CC29D5C92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696464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d34817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8600">
              <a:spcBef>
                <a:spcPts val="400"/>
              </a:spcBef>
              <a:buClr>
                <a:srgbClr val="d3481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858960" indent="-228600">
              <a:spcBef>
                <a:spcPts val="400"/>
              </a:spcBef>
              <a:buClr>
                <a:srgbClr val="9b2d1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3" marL="1143000" indent="-228600">
              <a:spcBef>
                <a:spcPts val="400"/>
              </a:spcBef>
              <a:buClr>
                <a:srgbClr val="9b2d1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400"/>
              </a:spcBef>
              <a:buClr>
                <a:srgbClr val="9b2d1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5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/18/20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6"/>
          </p:nvPr>
        </p:nvSpPr>
        <p:spPr>
          <a:xfrm>
            <a:off x="4379760" y="6408720"/>
            <a:ext cx="423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2011, The McGraw-Hill Companies, Inc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7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8889A-6EAA-4ABB-942C-427FA69774E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e9a49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1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82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3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84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e9e5dc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e9e5dc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d34817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620640" indent="-228600">
              <a:spcBef>
                <a:spcPts val="400"/>
              </a:spcBef>
              <a:buClr>
                <a:srgbClr val="d3481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2" marL="858960" indent="-228600">
              <a:spcBef>
                <a:spcPts val="400"/>
              </a:spcBef>
              <a:buClr>
                <a:srgbClr val="9b2d1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3" marL="1143000" indent="-228600">
              <a:spcBef>
                <a:spcPts val="400"/>
              </a:spcBef>
              <a:buClr>
                <a:srgbClr val="9b2d1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4" marL="1371600" indent="-228600">
              <a:spcBef>
                <a:spcPts val="400"/>
              </a:spcBef>
              <a:buClr>
                <a:srgbClr val="9b2d1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 type="dt" idx="18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/18/20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 type="ftr" idx="19"/>
          </p:nvPr>
        </p:nvSpPr>
        <p:spPr>
          <a:xfrm>
            <a:off x="4379760" y="6408720"/>
            <a:ext cx="423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2011, The McGraw-Hill Companies, Inc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 type="sldNum" idx="20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B1786-AACD-4717-97B2-D139F803BCD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e9a49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8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9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31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696464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d34817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8600">
              <a:spcBef>
                <a:spcPts val="400"/>
              </a:spcBef>
              <a:buClr>
                <a:srgbClr val="d3481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858960" indent="-228600">
              <a:spcBef>
                <a:spcPts val="400"/>
              </a:spcBef>
              <a:buClr>
                <a:srgbClr val="9b2d1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3" marL="1143000" indent="-228600">
              <a:spcBef>
                <a:spcPts val="400"/>
              </a:spcBef>
              <a:buClr>
                <a:srgbClr val="9b2d1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400"/>
              </a:spcBef>
              <a:buClr>
                <a:srgbClr val="9b2d1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 type="dt" idx="2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/18/20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 type="ftr" idx="22"/>
          </p:nvPr>
        </p:nvSpPr>
        <p:spPr>
          <a:xfrm>
            <a:off x="4379760" y="6408720"/>
            <a:ext cx="423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2011, The McGraw-Hill Companies, Inc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 type="sldNum" idx="2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A1D63-4B5A-4DEA-8CA6-FB97C0DDCB8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696464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d34817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8600">
              <a:spcBef>
                <a:spcPts val="400"/>
              </a:spcBef>
              <a:buClr>
                <a:srgbClr val="d3481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858960" indent="-228600">
              <a:spcBef>
                <a:spcPts val="400"/>
              </a:spcBef>
              <a:buClr>
                <a:srgbClr val="9b2d1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3" marL="1143000" indent="-228600">
              <a:spcBef>
                <a:spcPts val="400"/>
              </a:spcBef>
              <a:buClr>
                <a:srgbClr val="9b2d1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400"/>
              </a:spcBef>
              <a:buClr>
                <a:srgbClr val="9b2d1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 type="dt" idx="2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/18/20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 type="ftr" idx="25"/>
          </p:nvPr>
        </p:nvSpPr>
        <p:spPr>
          <a:xfrm>
            <a:off x="4379760" y="6408720"/>
            <a:ext cx="423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2011, The McGraw-Hill Companies, Inc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 type="sldNum" idx="2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D2AE7-7D5F-4A47-A63B-7089F08CCC6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7" name="Title 1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089920" cy="1841400"/>
          </a:xfrm>
          <a:prstGeom prst="rect">
            <a:avLst/>
          </a:prstGeom>
          <a:ln w="0">
            <a:noFill/>
          </a:ln>
        </p:spPr>
      </p:pic>
      <p:sp>
        <p:nvSpPr>
          <p:cNvPr id="558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96464"/>
                </a:solidFill>
                <a:latin typeface="Arial"/>
              </a:rPr>
              <a:t>The Aegea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d34817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ycladic Civiliza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c. 3000–11th Century B.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8600">
              <a:spcBef>
                <a:spcPts val="326"/>
              </a:spcBef>
              <a:buClr>
                <a:srgbClr val="d3481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mpressive examples of early Bronze Age human figures in marbl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858960" indent="-228600">
              <a:spcBef>
                <a:spcPts val="349"/>
              </a:spcBef>
              <a:buClr>
                <a:srgbClr val="9b2d1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emale figures more numerous than mal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858960" indent="-228600">
              <a:spcBef>
                <a:spcPts val="349"/>
              </a:spcBef>
              <a:buClr>
                <a:srgbClr val="9b2d1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Purpose is unknown, but most were found in grav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858960" indent="-228600">
              <a:spcBef>
                <a:spcPts val="349"/>
              </a:spcBef>
              <a:buClr>
                <a:srgbClr val="9b2d1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omposed mainly of geometric section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858960" indent="-228600">
              <a:spcBef>
                <a:spcPts val="349"/>
              </a:spcBef>
              <a:buClr>
                <a:srgbClr val="9b2d1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Footer Placeholder 2"/>
          <p:cNvSpPr/>
          <p:nvPr/>
        </p:nvSpPr>
        <p:spPr>
          <a:xfrm>
            <a:off x="4379760" y="6408720"/>
            <a:ext cx="4230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2011, The McGraw-Hill Companies, Inc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5C973-06F8-4AAF-AC98-AF6CEEE0C7B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2" name="Title 4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d34817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inoan Civiliza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c. 3000–1100 B.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8600">
              <a:spcBef>
                <a:spcPts val="326"/>
              </a:spcBef>
              <a:buClr>
                <a:srgbClr val="d3481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e modern Greek island of Crete was the home of the most important Bronze Age cultur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8600">
              <a:spcBef>
                <a:spcPts val="326"/>
              </a:spcBef>
              <a:buClr>
                <a:srgbClr val="d3481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Mythological home of King Minos and the story of the Minotau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8600">
              <a:spcBef>
                <a:spcPts val="326"/>
              </a:spcBef>
              <a:buClr>
                <a:srgbClr val="d3481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e Palace at Knosso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858960" indent="-228600">
              <a:spcBef>
                <a:spcPts val="349"/>
              </a:spcBef>
              <a:buClr>
                <a:srgbClr val="9b2d1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Knossos had been inhabited since early Neolithic tim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858960" indent="-228600">
              <a:spcBef>
                <a:spcPts val="349"/>
              </a:spcBef>
              <a:buClr>
                <a:srgbClr val="9b2d1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Palace was asymmetrical and meandering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858960" indent="-228600">
              <a:spcBef>
                <a:spcPts val="349"/>
              </a:spcBef>
              <a:buClr>
                <a:srgbClr val="9b2d1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onstruction was post-and-lint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Footer Placeholder 2"/>
          <p:cNvSpPr/>
          <p:nvPr/>
        </p:nvSpPr>
        <p:spPr>
          <a:xfrm>
            <a:off x="4379760" y="6408720"/>
            <a:ext cx="4230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2011, The McGraw-Hill Companies, Inc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Slide Number Placehold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0541C-B2C0-4E43-9322-E1859D4ED31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6" name="Title 4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252720">
              <a:spcBef>
                <a:spcPts val="400"/>
              </a:spcBef>
              <a:buClr>
                <a:srgbClr val="d34817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inoan Civiliza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c. 3000–1100 B.C.)     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(continu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14160" indent="-226080">
              <a:spcBef>
                <a:spcPts val="326"/>
              </a:spcBef>
              <a:buClr>
                <a:srgbClr val="d3481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Minoan Fresco—pigments mixed in with plaste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850320" indent="-226080">
              <a:spcBef>
                <a:spcPts val="349"/>
              </a:spcBef>
              <a:buClr>
                <a:srgbClr val="9b2d1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dditional details painted over the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buon fresco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14160" indent="-226080">
              <a:spcBef>
                <a:spcPts val="326"/>
              </a:spcBef>
              <a:buClr>
                <a:srgbClr val="d3481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Religio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850320" indent="-226080">
              <a:spcBef>
                <a:spcPts val="349"/>
              </a:spcBef>
              <a:buClr>
                <a:srgbClr val="9b2d1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Little is known about Minoan religious belief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850320" indent="-226080">
              <a:spcBef>
                <a:spcPts val="349"/>
              </a:spcBef>
              <a:buClr>
                <a:srgbClr val="9b2d1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Recurring religious motifs: Bulls, double axes, trees, columns, outdoor shrines, and goddesses holding snak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14160" indent="-226080">
              <a:spcBef>
                <a:spcPts val="326"/>
              </a:spcBef>
              <a:buClr>
                <a:srgbClr val="d3481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Minoan Script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850320" indent="-226080">
              <a:spcBef>
                <a:spcPts val="349"/>
              </a:spcBef>
              <a:buClr>
                <a:srgbClr val="9b2d1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Linear A—developed about 2000 B.C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850320" indent="-226080">
              <a:spcBef>
                <a:spcPts val="349"/>
              </a:spcBef>
              <a:buClr>
                <a:srgbClr val="9b2d1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Linear B—used mainly for inventory lists and record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14160" indent="-226080">
              <a:spcBef>
                <a:spcPts val="326"/>
              </a:spcBef>
              <a:buClr>
                <a:srgbClr val="d3481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Potter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850320" indent="-226080">
              <a:spcBef>
                <a:spcPts val="349"/>
              </a:spcBef>
              <a:buClr>
                <a:srgbClr val="9b2d1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nergetic designs and organic form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Footer Placeholder 2"/>
          <p:cNvSpPr/>
          <p:nvPr/>
        </p:nvSpPr>
        <p:spPr>
          <a:xfrm>
            <a:off x="4379760" y="6408720"/>
            <a:ext cx="4230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2011, The McGraw-Hill Companies, Inc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Slide Number Placehold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93C96-D509-4C51-8DAE-69270CF2E34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0" name="Title 4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d34817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Discoveries at Thera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8600">
              <a:spcBef>
                <a:spcPts val="326"/>
              </a:spcBef>
              <a:buClr>
                <a:srgbClr val="d3481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ffluent ancient trading city with interior baths and toilet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8600">
              <a:spcBef>
                <a:spcPts val="326"/>
              </a:spcBef>
              <a:buClr>
                <a:srgbClr val="d3481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Buried by a volcanic eruption 1700–1500 B.C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8600">
              <a:spcBef>
                <a:spcPts val="326"/>
              </a:spcBef>
              <a:buClr>
                <a:srgbClr val="d3481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e Frescoes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858960" indent="-228600">
              <a:spcBef>
                <a:spcPts val="349"/>
              </a:spcBef>
              <a:buClr>
                <a:srgbClr val="9b2d1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dorned both public spaces and private residen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858960" indent="-228600">
              <a:spcBef>
                <a:spcPts val="349"/>
              </a:spcBef>
              <a:buClr>
                <a:srgbClr val="9b2d1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Provide clues about life and culture in ancient Ther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143000" indent="-228600">
              <a:spcBef>
                <a:spcPts val="349"/>
              </a:spcBef>
              <a:buClr>
                <a:srgbClr val="9b2d1f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Ship Fresco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3" marL="1143000" indent="-228600">
              <a:spcBef>
                <a:spcPts val="349"/>
              </a:spcBef>
              <a:buClr>
                <a:srgbClr val="9b2d1f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Boxing Childre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3" marL="1143000" indent="-228600">
              <a:spcBef>
                <a:spcPts val="349"/>
              </a:spcBef>
              <a:buClr>
                <a:srgbClr val="9b2d1f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Crocus Gatherer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Footer Placeholder 2"/>
          <p:cNvSpPr/>
          <p:nvPr/>
        </p:nvSpPr>
        <p:spPr>
          <a:xfrm>
            <a:off x="4379760" y="6408720"/>
            <a:ext cx="4230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2011, The McGraw-Hill Companies, Inc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Slide Number Placehold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D3055-8674-4034-B216-A0449E8D9E4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4" name="Title 4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d34817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ycenaean Civiliza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c. 1600–1100 B.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8600">
              <a:spcBef>
                <a:spcPts val="326"/>
              </a:spcBef>
              <a:buClr>
                <a:srgbClr val="d3481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rchaeologist Heinrich Schliemann sought to prove certain Greek myths were based on historical event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858960" indent="-228600">
              <a:spcBef>
                <a:spcPts val="349"/>
              </a:spcBef>
              <a:buClr>
                <a:srgbClr val="9b2d1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Discovered and excavated both Troy in modern-day Turkey and Mycenae in the Peloponnese, based on tales from </a:t>
            </a:r>
            <a:br>
              <a:rPr sz="2100"/>
            </a:b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The Iliad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nd several plays about Agamemnon’s family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8600">
              <a:spcBef>
                <a:spcPts val="326"/>
              </a:spcBef>
              <a:buClr>
                <a:srgbClr val="d3481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Evidence of Minoan and Mycenaean contac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858960" indent="-228600">
              <a:spcBef>
                <a:spcPts val="349"/>
              </a:spcBef>
              <a:buClr>
                <a:srgbClr val="9b2d1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Mycenaean frescos similar to Minoan fresco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858960" indent="-228600">
              <a:spcBef>
                <a:spcPts val="349"/>
              </a:spcBef>
              <a:buClr>
                <a:srgbClr val="9b2d1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Minoan-style columns used on the Lion Gat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858960" indent="-228600">
              <a:spcBef>
                <a:spcPts val="349"/>
              </a:spcBef>
              <a:buClr>
                <a:srgbClr val="9b2d1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e gold cup is Mycenaean in execution but with iconography that is Minoa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Footer Placeholder 2"/>
          <p:cNvSpPr/>
          <p:nvPr/>
        </p:nvSpPr>
        <p:spPr>
          <a:xfrm>
            <a:off x="4379760" y="6408720"/>
            <a:ext cx="4230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2011, The McGraw-Hill Companies, Inc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Slide Number Placehold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32FD6-0A4F-4197-B4A0-C737E696459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8" name="Title 4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8T17:56:54Z</dcterms:created>
  <dc:creator>bekbek</dc:creator>
  <dc:description/>
  <dc:language>en-US</dc:language>
  <cp:lastModifiedBy>krishna.prasad</cp:lastModifiedBy>
  <dcterms:modified xsi:type="dcterms:W3CDTF">2010-10-19T07:04:11Z</dcterms:modified>
  <cp:revision>23</cp:revision>
  <dc:subject/>
  <dc:title>Chapter 1</dc:title>
</cp:coreProperties>
</file>